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E4E-5A58-404D-A7F8-93A3AD90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F5D-FA36-40D1-8AC9-8798E57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91C2B-718C-4974-A0C3-96380294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F7C44-E365-4BBA-B61C-E6FA9DFA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76E9E-6381-4EAD-9A47-8CFE30EC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401F0-D511-41F6-87FE-6A09AC0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95FA3-22CA-46A7-8A8E-9E3D4C6D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AD5C1-AEE3-4F06-972B-5DEC630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2A272-C570-4C1B-9AF1-A023A144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62828-F96C-47EE-9884-9F9BD588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DF671-2DAF-48CD-B1CE-CF286928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1DED0-BEEF-40F0-94CE-C478AC53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99C-5675-4E91-801A-0FAAA4A5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337CF-1767-4004-BAD1-38B21686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DFCD9-C7D5-426A-AF95-A75051E4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4B892-B302-4312-82CE-C46DF044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9CAC-EAB6-4914-AB63-3A29664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D5913-CBE9-465A-8AF0-6E7731AE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81888-73C3-4B5D-A1BF-165AE64E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EC69A-773C-4B79-AC77-7DE89CD7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DE61F-EC78-44D1-9B39-9443E5D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E5BBF-DAAE-4581-8DB7-56259ADE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C93F9-A3B3-426E-929E-E6012F01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A99-A58B-4A42-95BF-D0AB8A7D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3806E-DC33-4624-8FCD-4249CAC5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6D268-7BAF-4B07-8069-1B9420DC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96A74-7312-461F-BC0A-D9E52550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19F78-474B-4A4E-A8D1-2B722B50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D498A-10B8-4E5E-9398-B97D9BF0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1FB37-05F5-4CD7-93F7-C892947B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CCCF4-EDAB-4396-972A-B5B39AA6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E9B8B-9F10-4377-9178-AD7F0B0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47612-D698-4CAF-A101-4158B9D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4A26-98CB-4B2B-A207-6F9C77C4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1491-A3DF-4DE9-A245-CB4E2BDD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3599F-0079-4E6D-9394-170C67E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C964B-ED0B-4138-852B-1ABD1FAF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9ACB5-5E6D-45DA-A883-436905FA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54E9B-A0D6-445B-B4BF-1CEC88C1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22F4D-B92A-4EE4-AD50-4914FC66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229EF-708F-483D-9270-0DAD78BB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7EC33-2BD6-4A8A-B7C4-543CF0D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7D6B3-D63C-41A2-B584-168872E0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6515B-D50C-42C8-9CF8-78B85397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9475D-4859-4312-81AC-89DAE30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B9F-E2BE-474F-A9AC-3043D6F2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48ADF-8D60-4759-ABEC-ACED9FB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5D8BE-6500-4408-9B80-ADDCB1E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B0863-D2A5-4610-864E-3F9E31B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DCD19-10BF-4351-B59A-555763AA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5836A-493A-423D-8A15-9309CF3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EF4BC-8DB3-4E75-9377-58A9DB9D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D199F-7421-4792-AB0C-CAFEE006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78B04-2D99-4634-B701-E4B4A712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7FC28-3071-4D1E-8C97-BB562654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E97CB-CDE0-43DB-A165-7B4A349A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0972-08BA-4BC4-96C6-50037A59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8B028-A05D-41B6-807E-438A563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8B0E5-FD3B-4D7D-BF3D-2BC48D2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AA1BB-3D40-4B1E-B09B-70001E4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745E0-BDF8-43DE-ADC4-D71E61D1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24AF5-0829-4348-9723-A3B5C463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D2FCB-F183-4856-B9D9-BBD4E1F4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FFAD6-D8FA-499E-9075-5A038269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2F80E-D593-434E-A662-42691EBF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B8DF8-C947-4886-8F38-3259392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2061D-5F1E-4BF9-9F6A-ADF1000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946B-3852-4898-88C1-97D83006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D19A2-BCDE-4410-B131-54E33DA5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EC73E-CEE3-492E-ADC3-112F9D02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5881B-75F7-4FEB-A6F0-D442E744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ACF3D-3591-4602-9DF1-138A9A1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189BF-EC9E-4A2C-8A14-4024EBE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A9DF7-3D81-4867-B139-79B7CF0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0C075-7869-40CC-8009-ACA264EF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6D2AD-F320-4BD9-8766-2BBB10EE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FB9D9-8B5B-4458-B3B4-23182E07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47CBA-DBA2-436E-AE14-4F7EA5EC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CE13-0D3D-472B-A41B-15F9E481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29822-F287-4A2D-AD3B-3EB8329E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84D84-CE17-413C-AAB8-91D53795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4C921-6622-4E4D-9FBC-651832F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D9082-42EE-40EC-87E7-939C760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DBE0F-6405-4473-B05A-EEF092DE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CC9C0-19FB-4F59-B58C-13C6A19F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34C89-8902-459E-B4F9-74D3BE0C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AEE8E-8031-4EA1-BBDF-BA3DBF9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1DB25-AF73-4371-AB94-DA1535B9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46232-E6D4-4072-BC6E-EE260B63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0DA-4F3E-436D-BE3D-278498EB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67498-1545-401B-ABF4-D3310AA0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98F2B-1C4D-45C1-9051-AE5CA99E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AE5B7-F603-4996-A3AC-6BA3C355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612BE-680A-4BB1-A59C-E6F0156D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EF212-BAE7-45E3-9CBC-07426545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DDFFC-C994-48A8-A705-2CE839FC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A4FD1-1066-4482-978E-3E46ACF9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79849-E303-470D-B1B3-206EECD1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FDFA8-B493-44D1-B8F5-060B80F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0A15A-BEAE-4969-94A0-F38519E5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7BAE-FE0C-47CB-84B1-A4703EE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6F2A5-BA30-483F-A622-F30D95C6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B8A46-207A-4C3B-8770-4460B2C3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01ADC-F43A-48EB-8CC3-A1A711B2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D8FB9-10BF-4064-8D6F-75C4458B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D75A2-6D60-4B8E-8AA4-A9CCF80B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ECF3A-619F-45FC-B86A-52D0A529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14352-94D4-433F-AD75-68A085E3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B9790-780F-4819-813C-5B9C88DB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46BCD-7674-488A-9F5A-EA247FB5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0D0BD-01BB-40B8-BBB5-A7652F8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32E-8AC7-4A41-8361-8C4D6BB3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F8ED-8DA6-425E-8A4D-DAF932F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9AA7E-1EBF-453B-9C9F-32DEBF7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2C9347-1ABE-4E45-9501-63A321F3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F6F1B-2289-4367-A95C-289BFB97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C8593-0A71-4E13-8BED-91D9B079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6D04F-0043-48F6-ADB9-C5DF5EBE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A6606-549C-4956-A812-98EA844C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2F91E-2256-40C6-AFBD-DB6CEAD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7CFB7-9A0F-4FC6-9EE7-1BB8591B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E692A-4BD0-4A05-933E-6B0E0AC5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F0531-BEDF-4EC1-896C-075066B9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C113-F722-41B7-8188-3026ADD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888F0-DFE8-40DB-93F6-A2A2FEB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864A5-3CDC-4494-A2B3-C54DD6E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1468A-AD01-43C2-B4B7-B342D18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8ED96-8397-4167-B956-AA7E335C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7B1FF-2B46-4118-8A8A-C03410F4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4698F-935A-45E6-964D-5A0E9B5B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ABE9A-538F-4582-8F28-7EAD7F0C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018F7-32F0-45CC-8C8B-F31233B5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E6C9E-5766-4AC4-9A3D-9624CF0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F4ED6-9B58-4F94-912A-2C10518B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677F-589D-4D70-AFBE-53A3630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D4123-76E3-4D10-8FAE-3CD43B0F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9ED21-47ED-48C5-B4FA-E937DB0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B34B7-1BF8-483C-9164-C8BF4FDB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6F393-26A2-4854-BCAF-5F8FAB1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E7FC6-B6FA-4E2D-8228-0B68302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0A764-C9AE-4DE3-9934-7B353D3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3BB2F-620D-42D0-9368-0BFA1B3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A80DF-7699-465B-936F-8340B5B4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15F26-97DB-4058-9D7B-1266F83B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B13AD-DB76-428A-A3ED-08279AD8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8E48-8DF5-4A91-8E55-80E8CF43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7CDB7-8F79-4DA4-8448-9B4658AF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64FAA-FB55-4526-99A7-DA99466E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53193-28B6-457A-9F13-61C3ADA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BAD45-C708-46F5-9634-B753A54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D8895-3ECC-4A83-B0F8-D240AC2C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F4423-118F-4551-BB2A-4465019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7E4ABE-6BAC-4CC6-ABC7-35E5E47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165D2-3F2C-48F3-922B-797AB92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EF1F96-A919-4508-B959-63A1B699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06D70-88EA-4E5C-A052-7965F77D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1586-852F-4FA4-AB1D-AEDB72E2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87D99-9B7B-433A-9F8C-1910E6BA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13748-A581-4BD7-888B-219065E3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FF79B-E987-43E9-A5AF-4EF5A416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74AA9-D9C5-4016-9046-DCD05E88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FB04C2-FCB5-4A30-B97E-AB67E74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69EB0-5ED1-4865-9103-F3726B9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20A5E-14EB-4C15-96F3-4F6A1A0B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9736B-5721-4085-AA07-0602AD9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83ED8A-1FC7-4BAA-A19F-C7CD453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98376-1231-477F-A04E-2DAC01A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F145-9C44-4EEB-BD59-EF06306A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DAF77-B1A0-47BC-9385-15B8B788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999FD-E805-4ECA-8269-DE842E32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73B0D-0E9D-445D-A4F5-5DBD84B4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5882-8902-4F37-906A-954CFAA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A69C-12FA-4768-9CAE-F9FF47CC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D69E-6179-4C99-ABAE-53E3BB46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E5BF-78F0-436F-A40C-DE286E6C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DC2-1847-4D8B-BD55-03CCCD0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3103-BAAD-4D27-B345-DECCAE40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6855-05B3-40BD-BBE7-6920913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94B6-3999-477A-B449-041B531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F9AA-E811-441E-999E-F8F7101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CAEF-01E6-466A-A999-303C01C8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24220-7B96-4D6B-8240-86CA5660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4433-697B-417C-9DAD-CAA86CB5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EFED-04FA-4D7B-BC0F-1B795F82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5CE6-BE0E-4E3D-913B-20BF8A29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D437-3DC6-437A-983F-FE848B10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9EE-CF95-40DF-B1B1-B817646D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DA58-EC75-44DD-A141-7D3157C4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05DB-60DA-40E1-B47E-27DDF47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4CEF-9AF8-4930-ACF6-4255C0E9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D0F9-1EDD-44D6-BD5D-EAAF1B5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7B5F-0F01-4466-B47F-699091A8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C0F8-5007-4683-B3E7-099A6046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5BC6-DDAD-4962-AD11-C7BBC096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68B1-10D4-4880-90D9-0D6C18D5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2ABEE-8C83-4501-AFC5-1C773BDF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79DD-1208-450B-B98C-D837A3B1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0DD-EE3C-4A2C-A91A-0633FD75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E5AA-1674-4494-908C-5CD3D3C5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F27B-3733-41DF-87A3-C6E38073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24083-6736-465F-8D19-83080EF0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55615-C717-49E2-8E25-E15A48D0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D1D1-A0DE-4050-95FD-CDB02F60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0654-6450-4ED9-84F5-2B3405CA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B53E-C778-48CD-9746-0DA3EB6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195C-8522-4EE4-A171-7BB33395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5792-28FE-4803-B0FD-CE0C3DB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7AFD-6928-426B-BD3E-179E98FC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F61-819B-4B37-9CA4-07FF836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006F-29B8-424C-9FF3-8FE8F5F0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628A-2D57-4358-99B8-C497876A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8938-AAB0-4517-BFD4-5ED836E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5C6A-1142-48D2-9EF5-50D38824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5200-1C50-4AC8-820A-D7F14879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1BEBF-E7AD-4E22-9DF4-794826D9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4DF15-7202-4593-9355-E9D58DF4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0EDB0-C04E-42E8-8E90-A4715D7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F82E-FBD3-430F-832A-7D92C66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FC65-AD7B-4C33-8247-1CB88E1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E9F-000A-4132-B0BF-7EB2658B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A9E26-3380-4704-80B8-48540268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69352-145F-4EBC-87F7-33CF660F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4078-DF54-4006-8F9B-AC26D8AD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A58C-FA00-4EBE-B1E1-4A0B44E2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ABEF-88DA-4C71-9734-26CB3A7E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E137F-BAA8-4137-9CDE-C80C9D78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82AC-797C-4E7C-8AFD-2A20D2C2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5C003-0F25-4E20-A209-23EFBA22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449F-0AD1-48E9-8791-294E2968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0F22B-2C65-4DCD-9EEE-5E29F94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CDB-50FC-47EE-B7F4-81C587E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4381-010E-4944-A0B6-D015B44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C0A02-8DF9-4706-9AA2-6CD60088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C38A-9D5B-4AE2-9F90-777844A7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B05A-4FA7-4BB0-A2AD-223C7A26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DA13-1CA9-40EE-B31A-2070BEEE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517A6-4F42-4722-9C9F-792CFBB0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161D-5979-40EE-8142-26B48F8C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8162-1013-4317-915B-CD0D84A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9321-B381-476E-8C91-FCC5042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AE597-353B-405B-8676-CD191876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6A0-58CE-4194-8882-0E88BAA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E90E5-E7DC-44F8-8B01-65A8CE17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3246-F5C7-4E58-9F83-2C01EDC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08EEB-3961-40EB-8B62-E27898E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D3EED-F01C-4769-B1CD-0A81E8B8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B222-CF59-4D76-9655-74B9E7C5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DD5F-18DE-4EAF-9725-4117DC44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821B-62D0-4106-B13B-323DE688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DD69-1916-48C9-84F0-EA7F6FB4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C8A4F-850E-4D5D-8626-13247C3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9C3BD-D631-43DB-869A-C18E2D31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3017-D5EF-455F-B926-A5EBFA61A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0436-2118-4B82-85E5-1047EAA1BE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305-513E-440D-A0CC-2E5F59FFA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2944-2938-4A95-8138-86AA7B0B50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4CB8-A71C-46F4-B80D-AFE6F3999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184B-879D-4CDC-8E82-BDAA1374A9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BA1-DCED-464A-9B6F-FDDB6E023F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B942-F0A9-4E1A-9677-37CEA03F8C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E113-F6FE-4185-A4F5-BD1830CD5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5BD-191F-4E15-AC40-BC347C2BE2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B49-FCD3-4526-8002-38E2FE715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E91-CA42-4682-9F87-27A965C64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4F0C-4B6C-4656-9CBE-0E3F6FD7B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0AD3-A0E5-4802-9593-941433958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5E0-6ACA-4126-A554-31330710C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6BC0-FEB2-40C0-BC13-BB3C80EF9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ADF-5F9E-4FCF-AED5-2D382D1B32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CB4-21E4-4CC1-A2AC-C7AC413750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B7D-2739-4DE6-89B2-48564BE2C4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03C0-622A-4847-B14D-66595D969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2A27-AA92-49BF-8A79-DC48B37FD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D6DB-9EED-4541-91CB-60DACFF74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E5A-4547-44BF-9330-C24544BFB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6A2B-E895-4CDA-8DAA-CF8B38E9E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FA6D-95A9-4659-9381-C8482CF9B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051-3CCC-471A-BD5D-8AE06D157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20BA-4177-46C5-B79E-81E88EB052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9D42-35E1-451F-B0EF-C08E3923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C81F-E0E2-498E-8022-3EDC4FE38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1F3B-A275-448F-B7D8-6112480B9D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E382-3A1D-4ADF-8D92-B41C8A586B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B7E4-B3CB-4D45-8474-5848E170D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BA68-391D-4042-A1A0-BFBAD12A6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D12-F405-48C5-A56D-7550BBBFD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D7CD-7CE1-4C15-9019-88609CA6D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AD06-FEBE-48AD-9CEE-C9AACFCB20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283-F322-4139-A116-FC4AA8292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760E-E052-433D-974B-0EC9F8C9D1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C293-4688-4844-8C81-7DC47FFA90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973-C7E0-45A7-80CD-3EC1A8CE56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2680" y="3068640"/>
            <a:ext cx="8918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47680" y="1500120"/>
            <a:ext cx="8648640" cy="3857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071720" y="2354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042920" y="3156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057320" y="3990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057320" y="4797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700200" y="2038320"/>
            <a:ext cx="7742160" cy="2781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3276720" y="2651040"/>
            <a:ext cx="863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3564000" y="3170160"/>
            <a:ext cx="863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2627280" y="3730680"/>
            <a:ext cx="863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908000" y="4235400"/>
            <a:ext cx="863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23840" y="819000"/>
            <a:ext cx="8896320" cy="5894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042920" y="299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1042920" y="4653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43000" y="1319040"/>
            <a:ext cx="8656560" cy="4219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187280" y="2492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258920" y="3011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1258920" y="35733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1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